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4B7A-D52E-4DCC-AD22-9C0FBBCCAD5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6"/>
          <p:cNvSpPr/>
          <p:nvPr/>
        </p:nvSpPr>
        <p:spPr>
          <a:xfrm>
            <a:off x="1476360" y="1341360"/>
            <a:ext cx="54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ea typeface="Times New Roman"/>
              </a:rPr>
              <a:t>Nadleśnictwo Złoczew</a:t>
            </a:r>
            <a:endParaRPr b="1" lang="en-US" sz="1400" spc="-1" strike="noStrike">
              <a:solidFill>
                <a:srgbClr val="ffffff"/>
              </a:solidFill>
              <a:latin typeface="Arial"/>
            </a:endParaRPr>
          </a:p>
        </p:txBody>
      </p:sp>
      <p:sp>
        <p:nvSpPr>
          <p:cNvPr id="78" name="pole tekstowe 1"/>
          <p:cNvSpPr/>
          <p:nvPr/>
        </p:nvSpPr>
        <p:spPr>
          <a:xfrm>
            <a:off x="1979640" y="2274840"/>
            <a:ext cx="54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Spotkanie informacyjne</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z Wykonawcami </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usług leśnych</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 </a:t>
            </a:r>
            <a:r>
              <a:rPr b="1" lang="pl-PL" sz="3600" spc="-1" strike="noStrike">
                <a:solidFill>
                  <a:srgbClr val="ffffff"/>
                </a:solidFill>
                <a:latin typeface="Arial"/>
                <a:ea typeface="Arial"/>
              </a:rPr>
              <a:t>05.11.2021 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również w przypadku gdy Wykonawca ubiega się o udzielenie zamówienia w kilku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eniając zdolność techniczną lub zawodową Wykonawcy, Zamawiający działając na podstawie art. 116 ust. 2 PZP może, na każdym etapie postępowania, uznać, że Wykonawca nie posiada wymaganych zdolności, jeżeli posiadanie przez Wykonawcę sprzecznych interesów, w szczególności zaangażowanie zasobów technicznych lub zawodowych Wykonawcy w inne przedsięwzięcia gospodarcze Wykonawcy może mieć negatywny wpływ na realizację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zczególności dotyczy to przypadku gdy Wykonawca ubiega się o udzielenie zamówienia w innych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w celu wykazania spełnienia warunków udziału w postępowaniu dot. zdolności technicznej lub zawodowej w zakresie potencjału technicz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maszyną wielooperacyjną typu harwes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musi spełnić warunek, że łączna masa drewna wskazana w załączniku nr 3.5 do SWZ jako pozyskanie maszynowe dla pakietów, na które Wykonawca złożył oferty nie może przekraczać 25 000 m3 drewna/rok, w przeliczeniu na 1 maszynę.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ciągnikiem zrywkowym lub ciągnikiem przystosowanym do zrywki drewna - wykonawca musi spełnić warunek, że łączna masa drewna, którą Wykonawca planuje zerwać przy użyciu tego samego ciągnika zrywkowego lub ciągnika przystosowanego do zrywki drewna nie może przekraczać 15 000 m3 drewna/rok, w przeliczeniu na 1 ciągnik.</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PRZEDMIOTU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1 - Rozmiar prac wg grup czynności, czynności i lokalizacj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
          <p:cNvGraphicFramePr/>
          <p:nvPr/>
        </p:nvGraphicFramePr>
        <p:xfrm>
          <a:off x="324000" y="1766880"/>
          <a:ext cx="8496000" cy="4614840"/>
        </p:xfrm>
        <a:graphic>
          <a:graphicData uri="http://schemas.openxmlformats.org/drawingml/2006/table">
            <a:tbl>
              <a:tblPr/>
              <a:tblGrid>
                <a:gridCol w="51120"/>
                <a:gridCol w="564840"/>
                <a:gridCol w="780120"/>
                <a:gridCol w="1075680"/>
                <a:gridCol w="1398960"/>
                <a:gridCol w="780480"/>
                <a:gridCol w="2003040"/>
                <a:gridCol w="767880"/>
                <a:gridCol w="416880"/>
                <a:gridCol w="657000"/>
              </a:tblGrid>
              <a:tr h="252000">
                <a:tc gridSpan="3">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 02/2022         </a:t>
                      </a:r>
                      <a:endParaRPr b="1" lang="en-US" sz="10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587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Dział</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eśnictwo/Szkółka/Inwentarz</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Kod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Nazwa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topień trud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J.M.</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lość</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9">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HOD</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2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6</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d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M1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z zasadz.wielog.1 zabi</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9</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6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1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98</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rowSpan="6">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DN-ZŁOŻ</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I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at. igl. z donies.</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 liśc. z donies.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SADZ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óz sadzonek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W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enie wielolatek w jamkę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igl.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L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liś.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8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Z</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IIIBU</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H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HARWESTER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P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PILARKA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HARW</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harwesterowy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P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pilarką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2 - Układ sortymentowy pozyskania drewna wg kategorii cięć i adresó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536400" y="1413000"/>
          <a:ext cx="8071200" cy="1584360"/>
        </p:xfrm>
        <a:graphic>
          <a:graphicData uri="http://schemas.openxmlformats.org/drawingml/2006/table">
            <a:tbl>
              <a:tblPr/>
              <a:tblGrid>
                <a:gridCol w="47520"/>
                <a:gridCol w="387000"/>
                <a:gridCol w="978480"/>
                <a:gridCol w="236520"/>
                <a:gridCol w="320040"/>
                <a:gridCol w="385560"/>
                <a:gridCol w="387000"/>
                <a:gridCol w="387000"/>
                <a:gridCol w="385560"/>
                <a:gridCol w="387000"/>
                <a:gridCol w="385200"/>
                <a:gridCol w="348840"/>
                <a:gridCol w="74520"/>
                <a:gridCol w="274320"/>
                <a:gridCol w="74880"/>
                <a:gridCol w="66600"/>
                <a:gridCol w="385200"/>
                <a:gridCol w="66960"/>
                <a:gridCol w="385200"/>
                <a:gridCol w="66600"/>
                <a:gridCol w="387000"/>
                <a:gridCol w="65160"/>
                <a:gridCol w="348840"/>
                <a:gridCol w="74880"/>
                <a:gridCol w="273960"/>
                <a:gridCol w="65160"/>
                <a:gridCol w="76320"/>
                <a:gridCol w="272520"/>
                <a:gridCol w="76320"/>
                <a:gridCol w="401040"/>
              </a:tblGrid>
              <a:tr h="24120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00" spc="-1" strike="noStrike">
                          <a:solidFill>
                            <a:srgbClr val="000000"/>
                          </a:solidFill>
                          <a:latin typeface="Arial"/>
                        </a:rPr>
                        <a:t>Pakiet: 01/2022         </a:t>
                      </a:r>
                      <a:endParaRPr b="1" lang="en-US" sz="700" spc="-1" strike="noStrike">
                        <a:solidFill>
                          <a:srgbClr val="ffffff"/>
                        </a:solidFill>
                        <a:latin typeface="Arial"/>
                      </a:endParaRPr>
                    </a:p>
                  </a:txBody>
                  <a:tcPr anchor="ctr" marL="5760" marR="57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r>
              <a:tr h="297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w="2880">
                      <a:solidFill>
                        <a:srgbClr val="000000"/>
                      </a:solid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 leśny</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PK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11">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Razem</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98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1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c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4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f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89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3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06</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36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87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Razem: 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2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41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9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2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70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bl>
          </a:graphicData>
        </a:graphic>
      </p:graphicFrame>
      <p:pic>
        <p:nvPicPr>
          <p:cNvPr id="94" name="Obraz 4" descr=""/>
          <p:cNvPicPr/>
          <p:nvPr/>
        </p:nvPicPr>
        <p:blipFill>
          <a:blip r:embed="rId1"/>
          <a:stretch/>
        </p:blipFill>
        <p:spPr>
          <a:xfrm>
            <a:off x="536400" y="3319560"/>
            <a:ext cx="8071200" cy="46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3 - Zestawienie odległości i warunków zrywki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58800" y="1484280"/>
          <a:ext cx="8064360" cy="3024360"/>
        </p:xfrm>
        <a:graphic>
          <a:graphicData uri="http://schemas.openxmlformats.org/drawingml/2006/table">
            <a:tbl>
              <a:tblPr/>
              <a:tblGrid>
                <a:gridCol w="698400"/>
                <a:gridCol w="1246320"/>
                <a:gridCol w="719280"/>
                <a:gridCol w="1688760"/>
                <a:gridCol w="722520"/>
                <a:gridCol w="711000"/>
                <a:gridCol w="723960"/>
                <a:gridCol w="843120"/>
                <a:gridCol w="711000"/>
              </a:tblGrid>
              <a:tr h="10126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ośc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całkowita</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 lesie</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za lasem</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nawierzchn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e terenu %</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r>
              <a:tr h="4035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87   -d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14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f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32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9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204   -i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4 - Zestawienie pozycji nieudostepnionych do pozyskania maszyn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611280" y="1557360"/>
          <a:ext cx="8013600" cy="4032360"/>
        </p:xfrm>
        <a:graphic>
          <a:graphicData uri="http://schemas.openxmlformats.org/drawingml/2006/table">
            <a:tbl>
              <a:tblPr/>
              <a:tblGrid>
                <a:gridCol w="1709640"/>
                <a:gridCol w="1623960"/>
                <a:gridCol w="981000"/>
                <a:gridCol w="588960"/>
                <a:gridCol w="798480"/>
                <a:gridCol w="812880"/>
                <a:gridCol w="812880"/>
                <a:gridCol w="685800"/>
              </a:tblGrid>
              <a:tr h="733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Szkółka/Inwentarz</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wierzchnia {Ha]</a:t>
                      </a:r>
                      <a:br>
                        <a:rPr sz="1000"/>
                      </a:b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ie [%]</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siedliskowy las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kryw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Rzeźb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Ilość [m3]</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g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1</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m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6</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r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9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x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62</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y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5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6,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5 - Informacja o optymalnej możliwej do zastosowania technologii pozyskania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446040" y="1484280"/>
          <a:ext cx="8447040" cy="4464000"/>
        </p:xfrm>
        <a:graphic>
          <a:graphicData uri="http://schemas.openxmlformats.org/drawingml/2006/table">
            <a:tbl>
              <a:tblPr/>
              <a:tblGrid>
                <a:gridCol w="1523880"/>
                <a:gridCol w="2305080"/>
                <a:gridCol w="781200"/>
                <a:gridCol w="903240"/>
                <a:gridCol w="590760"/>
                <a:gridCol w="1063440"/>
                <a:gridCol w="376200"/>
                <a:gridCol w="903240"/>
              </a:tblGrid>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Leśnictwo</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dres leśny</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Grupa czynn.</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maszynowe [m3]</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ręczne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azem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R</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W</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7    -b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9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 2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f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g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1</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9</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h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i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4</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7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6 - Powierzchnie, gdzie planowana jest ochrona nalotów i podros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826920" y="1557360"/>
          <a:ext cx="6913800" cy="4535640"/>
        </p:xfrm>
        <a:graphic>
          <a:graphicData uri="http://schemas.openxmlformats.org/drawingml/2006/table">
            <a:tbl>
              <a:tblPr/>
              <a:tblGrid>
                <a:gridCol w="1459080"/>
                <a:gridCol w="2208240"/>
                <a:gridCol w="3246480"/>
              </a:tblGrid>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3/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Błot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4-180   -d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TPP</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4/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888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4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196   -b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290   -h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5/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6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rzyb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6-      -    -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Brak powierzchni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7 - Informacja o konieczności dołowania dostarczonych sadzonek w miejscu sad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łowanie w miejscu wskazanym przez przedstawiciela Zamawiającego dotyczy następujących pakie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4/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5/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6/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7/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8/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9/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0/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765000"/>
            <a:ext cx="8013600" cy="56167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nie usług z zakresu gospodarki leśnej na terenie Nadleśnictwa Złoczew w 2022 roku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mówienie SWZ </a:t>
            </a:r>
            <a:r>
              <a:rPr b="0" lang="pl-PL" sz="1800" spc="-1" strike="noStrike">
                <a:solidFill>
                  <a:srgbClr val="000000"/>
                </a:solidFill>
                <a:latin typeface="Arial"/>
              </a:rPr>
              <a:t>(wybrane elementy, całość dostepna na stronie BIP Nadleśnictw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dmiot zamówienia został podzielony na części („Paki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 – leśnictwo: Brąszewice ; Pakiet: 0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 – leśnictwo: Orły; Pakiet: 02/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I – leśnictwo: Błota; Pakiet: 0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V – leśnictwo: Klonowa Pakiet: 0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 – leśnictwo: Grzyb; Pakiet: 0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 – leśnictwo: Oraczew; Pakiet: 0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leśnictwo: Dąbrowa oraz leśnictwo Szkółkarsko-Selekcyj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ąbrowa ; (Pakiet: 07/2022)</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4360" y="909720"/>
            <a:ext cx="8013600" cy="5472000"/>
          </a:xfrm>
          <a:prstGeom prst="rect">
            <a:avLst/>
          </a:prstGeom>
          <a:noFill/>
          <a:ln w="0">
            <a:noFill/>
          </a:ln>
        </p:spPr>
        <p:txBody>
          <a:bodyPr anchor="t">
            <a:normAutofit/>
          </a:bodyPr>
          <a:p>
            <a:pPr marL="343080" indent="0" algn="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1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nSpc>
                <a:spcPct val="115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Regionalny opis standardu technologii wykonawstwa prac leśnych dla RDLP w Łodzi (ROSTWPL), stanowiący rozszerzenie „Opisu standardu technologii wykonawstwa prac leśnych wraz z procedurą odbioru prac” (OSTWPL) o czynności stosowane w jednostkach organizacyjnych RDLP w Łodzi, a nie opisanych w Załączniku nr 4 do SWZ.</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mówienie przykładow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2</a:t>
            </a:r>
            <a:r>
              <a:rPr b="0" lang="pl-PL" sz="1800" spc="-1" strike="noStrike">
                <a:solidFill>
                  <a:srgbClr val="000000"/>
                </a:solidFill>
                <a:latin typeface="Arial"/>
              </a:rPr>
              <a:t>	</a:t>
            </a:r>
            <a:r>
              <a:rPr b="0" lang="pl-PL" sz="1800" spc="-1" strike="noStrike">
                <a:solidFill>
                  <a:srgbClr val="000000"/>
                </a:solidFill>
                <a:latin typeface="Arial"/>
              </a:rPr>
              <a:t>- str. 2</a:t>
            </a:r>
            <a:r>
              <a:rPr b="0" lang="pl-PL" sz="1800" spc="-1" strike="noStrike">
                <a:solidFill>
                  <a:srgbClr val="000000"/>
                </a:solidFill>
                <a:latin typeface="Arial"/>
              </a:rPr>
              <a:t>	</a:t>
            </a:r>
            <a:r>
              <a:rPr b="0" lang="pl-PL" sz="1800" spc="-1" strike="noStrike">
                <a:solidFill>
                  <a:srgbClr val="000000"/>
                </a:solidFill>
                <a:latin typeface="Arial"/>
              </a:rPr>
              <a:t>- całkowity wyrób drewna technologią dowoln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116 </a:t>
            </a:r>
            <a:r>
              <a:rPr b="0" lang="pl-PL" sz="1800" spc="-1" strike="noStrike">
                <a:solidFill>
                  <a:srgbClr val="000000"/>
                </a:solidFill>
                <a:latin typeface="Arial"/>
              </a:rPr>
              <a:t>	</a:t>
            </a:r>
            <a:r>
              <a:rPr b="0" lang="pl-PL" sz="1800" spc="-1" strike="noStrike">
                <a:solidFill>
                  <a:srgbClr val="000000"/>
                </a:solidFill>
                <a:latin typeface="Arial"/>
              </a:rPr>
              <a:t>- str. 58 </a:t>
            </a:r>
            <a:r>
              <a:rPr b="0" lang="pl-PL" sz="1800" spc="-1" strike="noStrike">
                <a:solidFill>
                  <a:srgbClr val="000000"/>
                </a:solidFill>
                <a:latin typeface="Arial"/>
              </a:rPr>
              <a:t>	</a:t>
            </a:r>
            <a:r>
              <a:rPr b="0" lang="pl-PL" sz="1800" spc="-1" strike="noStrike">
                <a:solidFill>
                  <a:srgbClr val="000000"/>
                </a:solidFill>
                <a:latin typeface="Arial"/>
              </a:rPr>
              <a:t>- czyszczenia wczesn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2 do SWZ – Kosztorys oferto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iekt 1"/>
          <p:cNvGraphicFramePr/>
          <p:nvPr/>
        </p:nvGraphicFramePr>
        <p:xfrm>
          <a:off x="179280" y="1182600"/>
          <a:ext cx="8713800" cy="5216760"/>
        </p:xfrm>
        <a:graphic>
          <a:graphicData uri="http://schemas.openxmlformats.org/presentationml/2006/ole">
            <p:oleObj r:id="rId1" spid="">
              <p:embed/>
              <p:pic>
                <p:nvPicPr>
                  <p:cNvPr id="108" name="Obiekt 1" descr=""/>
                  <p:cNvPicPr/>
                  <p:nvPr/>
                </p:nvPicPr>
                <p:blipFill>
                  <a:blip r:embed="rId2"/>
                  <a:stretch/>
                </p:blipFill>
                <p:spPr>
                  <a:xfrm>
                    <a:off x="179280" y="1182600"/>
                    <a:ext cx="8713800" cy="52167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iekt 1"/>
          <p:cNvGraphicFramePr/>
          <p:nvPr/>
        </p:nvGraphicFramePr>
        <p:xfrm>
          <a:off x="82440" y="909720"/>
          <a:ext cx="8871120" cy="4535280"/>
        </p:xfrm>
        <a:graphic>
          <a:graphicData uri="http://schemas.openxmlformats.org/presentationml/2006/ole">
            <p:oleObj r:id="rId1" spid="">
              <p:embed/>
              <p:pic>
                <p:nvPicPr>
                  <p:cNvPr id="111" name="Obiekt 1" descr=""/>
                  <p:cNvPicPr/>
                  <p:nvPr/>
                </p:nvPicPr>
                <p:blipFill>
                  <a:blip r:embed="rId2"/>
                  <a:stretch/>
                </p:blipFill>
                <p:spPr>
                  <a:xfrm>
                    <a:off x="82440" y="909720"/>
                    <a:ext cx="8871120" cy="4535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iekt 1"/>
          <p:cNvGraphicFramePr/>
          <p:nvPr/>
        </p:nvGraphicFramePr>
        <p:xfrm>
          <a:off x="160200" y="0"/>
          <a:ext cx="8875800" cy="6670800"/>
        </p:xfrm>
        <a:graphic>
          <a:graphicData uri="http://schemas.openxmlformats.org/presentationml/2006/ole">
            <p:oleObj r:id="rId1" spid="">
              <p:embed/>
              <p:pic>
                <p:nvPicPr>
                  <p:cNvPr id="114" name="Obiekt 1" descr=""/>
                  <p:cNvPicPr/>
                  <p:nvPr/>
                </p:nvPicPr>
                <p:blipFill>
                  <a:blip r:embed="rId2"/>
                  <a:stretch/>
                </p:blipFill>
                <p:spPr>
                  <a:xfrm>
                    <a:off x="160200" y="0"/>
                    <a:ext cx="8875800" cy="6670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iekt 1"/>
          <p:cNvGraphicFramePr/>
          <p:nvPr/>
        </p:nvGraphicFramePr>
        <p:xfrm>
          <a:off x="168120" y="115920"/>
          <a:ext cx="8852040" cy="6408720"/>
        </p:xfrm>
        <a:graphic>
          <a:graphicData uri="http://schemas.openxmlformats.org/presentationml/2006/ole">
            <p:oleObj r:id="rId1" spid="">
              <p:embed/>
              <p:pic>
                <p:nvPicPr>
                  <p:cNvPr id="117" name="Obiekt 1" descr=""/>
                  <p:cNvPicPr/>
                  <p:nvPr/>
                </p:nvPicPr>
                <p:blipFill>
                  <a:blip r:embed="rId2"/>
                  <a:stretch/>
                </p:blipFill>
                <p:spPr>
                  <a:xfrm>
                    <a:off x="168120" y="115920"/>
                    <a:ext cx="8852040" cy="6408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866880" y="1197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ea typeface="Arial"/>
              </a:rPr>
              <a:t>       </a:t>
            </a:r>
            <a:r>
              <a:rPr b="0" lang="pl-PL" sz="2800" spc="-1" strike="noStrike">
                <a:solidFill>
                  <a:srgbClr val="ffffff"/>
                </a:solidFill>
                <a:latin typeface="Arial"/>
                <a:ea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leśnictwo: Pyszków razem z mechanicznym przygotowanie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leby na terenie Nadleśnictwa Złoczew. Pakiet: 08/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X – leśnictwo: Potok Pakiet: 09/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 – leśnictwo: Sokołów; (Pakiet: 10/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 – leśnictwo: Korzeń; (Pakiet: 1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 – leśnictwo: Rychłocice; (Pakiet: 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I – leśnictwo: Stolec; (Pakiet: 1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V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Brąszewice, Orły, Grzyb (Pakiet: 1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 – Grodzenie oraz demontaż grodzeń upraw leśnych w leśnictwach: Błota, Dąbrowa, Pyszków (Pakiet: 1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Klonowa, Potok, Sokołów (Pakiet: 1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I – Grodzenie oraz demontaż grodzeń upraw leśnych w leśnictwach: Oraczew, Korzeń, Rychłocice (Pakiet: 17/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runki udziału w poste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odniesieniu do sytuacji finansowej, zostanie spełniony, jeśl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wykaże, że posiada środki finansowe lub zdolność kredytową n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niejszą ni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 27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30 4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24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21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25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31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a:t>
            </a:r>
            <a:r>
              <a:rPr b="0" lang="pl-PL" sz="1800" spc="-1" strike="noStrike">
                <a:solidFill>
                  <a:srgbClr val="000000"/>
                </a:solidFill>
                <a:latin typeface="Arial"/>
              </a:rPr>
              <a:t>	</a:t>
            </a:r>
            <a:r>
              <a:rPr b="0" lang="pl-PL" sz="1800" spc="-1" strike="noStrike">
                <a:solidFill>
                  <a:srgbClr val="000000"/>
                </a:solidFill>
                <a:latin typeface="Arial"/>
              </a:rPr>
              <a:t>46 8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38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35 600,00 zł</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8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11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3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17 9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4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1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2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4360" y="909720"/>
            <a:ext cx="8013600" cy="5472000"/>
          </a:xfrm>
          <a:prstGeom prst="rect">
            <a:avLst/>
          </a:prstGeom>
          <a:noFill/>
          <a:ln w="0">
            <a:noFill/>
          </a:ln>
        </p:spPr>
        <p:txBody>
          <a:bodyPr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doświadczenia, zostanie uznany za spełniony, jeśli Wykonawca wykaże, że w okresie ostatnich 3 lat liczonych wstecz od dnia, w którym upływa termin składania ofert (a jeżeli okres prowadzenia działalności jest krótszy – w tym okresi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realizował lub realizuje (przy czym w tym przypadku będzie uwzględniana wartość zrealizowanej części przedmiotu umowy), na podstawie jednej lub większej ilości umów, usługi z zakresu gospodarki leśnej o łącznej wartości nie mniejszej niż </a:t>
            </a:r>
            <a:r>
              <a:rPr b="1" lang="pl-PL" sz="1800" spc="-1" strike="noStrike">
                <a:solidFill>
                  <a:srgbClr val="000000"/>
                </a:solidFill>
                <a:latin typeface="Arial"/>
              </a:rPr>
              <a:t>określona wartość zł brutto </a:t>
            </a:r>
            <a:r>
              <a:rPr b="0" lang="pl-PL" sz="1800" spc="-1" strike="noStrike">
                <a:solidFill>
                  <a:srgbClr val="000000"/>
                </a:solidFill>
                <a:latin typeface="Arial"/>
              </a:rPr>
              <a:t>polegające na wykonywaniu prac obejmujących usługi z zakresu zagospodarowania lasu, zrywki i pozyskania drewna przy czym: (a) w przypadku wykonawców wspólnie ubiegających się o udzielenie zamówienia, co najmniej jeden z takich wykonawców powinien wykazać usługi z zakresu gospodarki leśnej o wartości stanowiącej co najmniej 50% łącznej wartości usług wymaganej w treści niniejszego warunku, (b) w przypadku polegania na doświadczeniu podmiotów udostępniających zasoby, co najmniej jeden z takich podmiotów lub wykonawca (a w przypadku wykonawców wspólnie ubiegających się o udzielenie zamówienia - co najmniej jeden z takich wykonawc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ci określone dla pakiet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1 000 000,00 zł, w tym nie mniej niż 300 000,00 zł w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zakresie szkółkarstwa leś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4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10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  4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83664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potencjału technicznego, zostanie uznany 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ony, jeśli Wykonawca wykaże, że dysponuje lub będzie dysponowa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I, II, III, IV, V, VI, IX, X, XII, XIII - co najmniej 1 maszyna typu harwester i co najmniej 1 ciągnik zrywkowy lub ciągnik przystosowany do zrywk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co najmniej 1 maszyna typu harwester i co najmniej 1 ciągnik zrywkowy lub ciągnik przystosowany do zrywki oraz dodatkowo w ramach prac na szkółce dodatkowy sprzęt (ciągnik i maszyny szkółkarskie) – w tym przypadku Zamawiający  umożliwi wykonawcy, któremu zostanie udzielone zamówienie korzystanie wymienionego powyżej sprzętu będącego własnością Zamawiającego, na podstawie umowy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co najmniej 1 maszyna leśna typu harwester, co najmniej 1 ciągnik zrywkowy lub ciągnik przystosowany do zrywki drewna, co najmniej 1 ciągnik rolniczym o mocy nie mniejszej niż 120 KM z napędem na 2 osie, co najmniej 2 ciągniki rolnicze o mocy nie mniejszej niż 150 KM z napędem na 2 osie oraz dodatkowo sprzęt do mechanicznego przygotowania gleby– w tym przypadku wymieniony sprzęt (tylko frezy i pług, bez ciagników) może być udostępniany przez Zamawiającego w ramach umów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XI - co najmniej 1 ciągnik zrywkowy lub ciągnik przystosowany do zrywki;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XV, XVI, XVII Zamawiający nie stawia szczególnych wymagań w zakresie opisu spełniania tego warunku udziału w postę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osób skierowanych przez Wykonawcę do realizacji zamówienia, zostanie uznany za spełniony, jeśli Wykonawca wykaże, że dysponuje lub będzie dysponować osobami, które ukończyły z wynikiem pozytywnym szkolenie dopuszczające do pracy z pilark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 II, VI, VIII, IX – co najmniej 3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II, IV, V, X, XI, XII, XIII – co najmniej 2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 co najmniej 3 pilarzy i co najmniej 3 osoby posiadające doświadczenie w wykonywaniu prac na szkółce leśnej.</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Zbigniew Pychyński Nadleśnictwo Złoczew</cp:lastModifiedBy>
  <cp:lastPrinted>2021-03-01T07:52:02Z</cp:lastPrinted>
  <dcterms:modified xsi:type="dcterms:W3CDTF">2021-11-05T08:52:27Z</dcterms:modified>
  <cp:revision>254</cp:revision>
  <dc:subject/>
  <dc:title>Slajd 1</dc:title>
</cp:coreProperties>
</file>